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187E-78B4-4364-AF84-5A5189162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8370-71BD-476F-8089-196D87A9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C8AA-9FCE-4341-BF71-F874867E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A913-4B99-4E2E-B2C1-01E957801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72A2-A6AE-4974-9013-BA14F89E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0A6E-7BB4-47F0-B53A-438B4F79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A639-1026-4E73-902E-D01544BA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88D7-1630-42C6-871C-F3B48C6D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037F-420A-4FE4-A84A-610D01C7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FD98-44F3-4096-BCCE-C8FCA4DA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3926-8680-465B-8C87-63D4BA38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49E8-67DC-4122-8A6C-885D3F2D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9A00-2545-4E1E-81AA-C69678959D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Tuesday, September 23rd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3619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of these angle measures does NOT have the same coordinates as the oth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35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Find the six trigonometric functions of t = </a:t>
            </a:r>
            <a:r>
              <a:rPr b="0" lang="en-US" sz="4000" spc="-1" strike="noStrike" baseline="30000">
                <a:solidFill>
                  <a:srgbClr val="dfc08d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dfc08d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Find the six trig functions of        t = </a:t>
            </a:r>
            <a:r>
              <a:rPr b="0" lang="en-US" sz="4400" spc="-1" strike="noStrike" baseline="30000">
                <a:solidFill>
                  <a:srgbClr val="dfc08d"/>
                </a:solidFill>
                <a:latin typeface="Arial"/>
              </a:rPr>
              <a:t>5</a:t>
            </a:r>
            <a:r>
              <a:rPr b="0" lang="en-US" sz="4400" spc="-1" strike="noStrike" baseline="30000">
                <a:solidFill>
                  <a:srgbClr val="dfc08d"/>
                </a:solidFill>
                <a:latin typeface="Symbol"/>
                <a:ea typeface="Symbol"/>
              </a:rPr>
              <a:t>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/</a:t>
            </a:r>
            <a:r>
              <a:rPr b="0" lang="en-US" sz="4400" spc="-1" strike="noStrike" baseline="-25000">
                <a:solidFill>
                  <a:srgbClr val="dfc08d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Find the six trig functions of        t = </a:t>
            </a:r>
            <a:r>
              <a:rPr b="0" lang="en-US" sz="4400" spc="-1" strike="noStrike" baseline="30000">
                <a:solidFill>
                  <a:srgbClr val="dfc08d"/>
                </a:solidFill>
                <a:latin typeface="Arial"/>
              </a:rPr>
              <a:t>7</a:t>
            </a:r>
            <a:r>
              <a:rPr b="0" lang="en-US" sz="4400" spc="-1" strike="noStrike" baseline="30000">
                <a:solidFill>
                  <a:srgbClr val="dfc08d"/>
                </a:solidFill>
                <a:latin typeface="Symbol"/>
                <a:ea typeface="Symbol"/>
              </a:rPr>
              <a:t>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/</a:t>
            </a:r>
            <a:r>
              <a:rPr b="0" lang="en-US" sz="4400" spc="-1" strike="noStrike" baseline="-25000">
                <a:solidFill>
                  <a:srgbClr val="dfc08d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fc08d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dfc08d"/>
                </a:solidFill>
                <a:latin typeface="Arial"/>
              </a:rPr>
              <a:t>Page 300</a:t>
            </a:r>
            <a:br>
              <a:rPr sz="7500"/>
            </a:br>
            <a:r>
              <a:rPr b="0" lang="en-US" sz="7500" spc="-1" strike="noStrike">
                <a:solidFill>
                  <a:srgbClr val="dfc08d"/>
                </a:solidFill>
                <a:latin typeface="Arial"/>
              </a:rPr>
              <a:t>#13-27 odd</a:t>
            </a:r>
            <a:endParaRPr b="0" lang="en-US" sz="75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Give back tests!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Questions from homework</a:t>
            </a:r>
            <a:br>
              <a:rPr sz="4000"/>
            </a:b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(page 300 #5-11,29-33,43,47)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295280" y="2286000"/>
          <a:ext cx="65412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86000"/>
                    <a:ext cx="654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4876920" y="2286000"/>
          <a:ext cx="653760" cy="57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2286000"/>
                    <a:ext cx="65376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066680" y="4419720"/>
          <a:ext cx="831960" cy="73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4419720"/>
                    <a:ext cx="831960" cy="73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04920" y="1981080"/>
            <a:ext cx="8001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point (x,y) on the unit circle that corresponds to the real number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952880" y="4267080"/>
          <a:ext cx="673200" cy="614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4267080"/>
                    <a:ext cx="67320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Evaluate the trigonometric function using its period as an aid.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9.  Sin 5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1.cos            33.  cos (-3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419720" y="1523880"/>
          <a:ext cx="60624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523880"/>
                    <a:ext cx="6062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Use a calculator to evaluate the expression. Round to four decimal places.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3.  Sin (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/4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47.  cos (-1.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-1523880"/>
            <a:ext cx="7753320" cy="898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fc08d"/>
                </a:solidFill>
                <a:latin typeface="Arial"/>
              </a:rPr>
              <a:t>Lesson 4.2</a:t>
            </a:r>
            <a:br>
              <a:rPr sz="8500"/>
            </a:br>
            <a:r>
              <a:rPr b="0" lang="en-US" sz="8500" spc="-1" strike="noStrike">
                <a:solidFill>
                  <a:srgbClr val="dfc08d"/>
                </a:solidFill>
                <a:latin typeface="Arial"/>
              </a:rPr>
              <a:t>part three</a:t>
            </a:r>
            <a:endParaRPr b="0" lang="en-US" sz="85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The six trigonometric function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ne (Sin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sine (Co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ngent (Tan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tangent (Cot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ant (Sec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secant (Csc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If t is a number and (x,y) is a point on the unit circle…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n t = 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s t = 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n t =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t t =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 t =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sc t =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21:58:27Z</dcterms:created>
  <dc:creator>jnewman</dc:creator>
  <dc:description/>
  <dc:language>en-US</dc:language>
  <cp:lastModifiedBy>abeason</cp:lastModifiedBy>
  <dcterms:modified xsi:type="dcterms:W3CDTF">2008-09-23T13:03:23Z</dcterms:modified>
  <cp:revision>9</cp:revision>
  <dc:subject/>
  <dc:title>Lesson 4.2 part three</dc:title>
</cp:coreProperties>
</file>